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5D2-0A9B-4334-95F9-84207275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FD1-9BBE-48DE-BDE2-6E926E8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311-952D-435D-8C5F-2486231F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485-D872-4731-9246-A9A1FE67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055-0577-4E2F-A5C1-0A7772D6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02D2-C94A-4192-A9C0-E2C74AF1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F30-9CA8-4F89-9D6C-58250971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B90E-EC3F-4AF8-BE7D-DC065B2C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7A1-B847-4DD2-98AE-83CA702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1BE2-9765-47D7-A2CA-C23126A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BF72-5056-4C62-99AA-59B18DF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F5C-1426-4513-BD6C-8334F0C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7B43-2E95-4A85-83B2-138D97A1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2BEC-E2AA-41D9-A29B-70CB862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366A-9B55-487D-BCCC-AFE8C2FF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BDF4-EE42-40D0-8EA3-D2B6D46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2BFA-FF59-495D-9089-409AFBA7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45F-27A8-4D47-8B7A-E81DDEF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ECC-8325-4EFF-8FD1-563A1AB6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BF0-6F3C-40FB-9017-B12D901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E3A-D9AB-49D2-AE15-89C43C7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686-E31F-4B1D-8BED-844E7E8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4E9-4ADE-417B-99BF-635A03F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BED-538A-46C8-91BA-10A16D2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5E0-A968-4844-9F05-EC28D919F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1C65-33B3-40D6-B96F-7EF80B8F4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Verbs Commonly Followed by Infinitiv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muchos, mucha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and muchas are used as adjectives before nou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y must agree in number and gender with the noun that follows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edificio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ciu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yer:  pocos, poca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and pocas mean ‘few’ in the sen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 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When it is singular (poco, poca) it means ‘litt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os hoteles.  There are few hot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as tiendas.  There are few st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o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 poca t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odos, todas, todo, toda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and Todas  can mean all or e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and Toda  can mean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se forms are followed by a definite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OD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los edific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s las ciudad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el 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ía   (The whole 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oda la tarea  (All of the homewor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yudar  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yudar is followed by an infiniti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’ is placed before the infinit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m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mpiar la c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ene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ener is followed by an infiniti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linking wo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os tien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udi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ensar (e---ie) -to pla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 pienso estudiar para el exam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nking word needed before the infiniti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I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r is followed by an infinitive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inking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sábado vamos a mirar una películ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No linking word needed after these verbs when an infinitive comes after the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rar (to h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INCO PUNTO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INCO PUNTO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o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éano                  peque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os edificios             las montañ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l rascacielos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¿Qu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  <a:ea typeface="ヒラギノ角ゴ Pro W3"/>
              </a:rPr>
              <a:t>é hay en tu pueblo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Hay muchos edificio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Hay lugares intersante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á cerca de un lago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46:14Z</dcterms:created>
  <dc:creator>Ed Center RLASD</dc:creator>
  <dc:description/>
  <dc:language>en-US</dc:language>
  <cp:lastModifiedBy>Ed Center RLASD</cp:lastModifiedBy>
  <dcterms:modified xsi:type="dcterms:W3CDTF">2010-11-05T16:44:03Z</dcterms:modified>
  <cp:revision>1</cp:revision>
  <dc:subject/>
  <dc:title>Verbs Commonly Followed by Infinitives</dc:title>
</cp:coreProperties>
</file>